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36F1-966A-42F0-8771-7FFD68EBDA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43D-C8C8-4990-85EB-B43F809480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D96-CC4A-405B-8036-57ACE8A2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65D-39BC-494B-A290-0CF26E2A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733-DF51-4BE9-A208-60B367DF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DEE-C8E8-427E-BD4F-91B1D42E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5FF-66D3-456E-AFB4-701EE955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07E-C387-4FA3-BA86-765061F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388-546B-47D9-9579-F7CF834D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057-2BFC-419F-8459-78BEFECB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CDA-097A-41C6-807B-74B6F6CC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89B-F884-4C6C-B0F0-BEA6C49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FB3-2715-46F0-A4A1-E41173F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418-61A7-4FC9-992B-02E829A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0D6B-F7E1-40ED-A4F8-FB410DD82EA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64296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fr-FR" sz="1400" spc="-1" strike="noStrike">
                <a:solidFill>
                  <a:srgbClr val="ffffff"/>
                </a:solidFill>
                <a:latin typeface="comic"/>
                <a:ea typeface="Arabic Transparen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"/>
              </a:rPr>
              <a:t>REPUBLIQUE ALGERIENNE DEMOCRATIQUE ET POPULAIRE</a:t>
            </a:r>
            <a:r>
              <a:rPr b="0" i="1" lang="fr-FR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1206360" y="3462480"/>
            <a:ext cx="6480360" cy="1401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285920" y="1214280"/>
            <a:ext cx="664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"/>
              </a:rPr>
              <a:t>MINISTERE DE L’ENSEIGNEMENT SUPERIEU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"/>
              </a:rPr>
              <a:t>ET DE LA RECHERCHE SCIENTIF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Text Box 6" descr=""/>
          <p:cNvPicPr/>
          <p:nvPr/>
        </p:nvPicPr>
        <p:blipFill>
          <a:blip r:embed="rId2"/>
          <a:stretch/>
        </p:blipFill>
        <p:spPr>
          <a:xfrm>
            <a:off x="1066680" y="230508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Nouvelle image Bitmap.jpg"/>
          <p:cNvPicPr/>
          <p:nvPr/>
        </p:nvPicPr>
        <p:blipFill>
          <a:blip r:embed="rId3"/>
          <a:stretch/>
        </p:blipFill>
        <p:spPr>
          <a:xfrm>
            <a:off x="420840" y="1066680"/>
            <a:ext cx="1158840" cy="12258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DSC00155.JPG"/>
          <p:cNvPicPr/>
          <p:nvPr/>
        </p:nvPicPr>
        <p:blipFill>
          <a:blip r:embed="rId4"/>
          <a:stretch/>
        </p:blipFill>
        <p:spPr>
          <a:xfrm>
            <a:off x="7429680" y="1143000"/>
            <a:ext cx="1214280" cy="116676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7"/>
          <p:cNvSpPr/>
          <p:nvPr/>
        </p:nvSpPr>
        <p:spPr>
          <a:xfrm>
            <a:off x="3214800" y="600084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Octobre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360360" y="2571840"/>
            <a:ext cx="844236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14200" y="214200"/>
          <a:ext cx="8501040" cy="6384960"/>
        </p:xfrm>
        <a:graphic>
          <a:graphicData uri="http://schemas.openxmlformats.org/drawingml/2006/table">
            <a:tbl>
              <a:tblPr/>
              <a:tblGrid>
                <a:gridCol w="2214720"/>
                <a:gridCol w="1225440"/>
                <a:gridCol w="1346400"/>
                <a:gridCol w="1071360"/>
                <a:gridCol w="26431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 (DA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ée d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ampus 1</a:t>
                      </a:r>
                      <a:r>
                        <a:rPr b="0" lang="fr-FR" sz="13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ère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ampus 2</a:t>
                      </a:r>
                      <a:r>
                        <a:rPr b="0" lang="fr-FR" sz="13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9/04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1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hirurgie dentair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/03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’étanchéité au niveau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 amphithéâtre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e bibliothèqu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ale de 1000 P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/04/199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6.982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et problème  de climatisation central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3000 PP (Campu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8/11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cours de 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4000 PP (Campu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cours de 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ite du Rectorat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évue e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cembre 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évue e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cembre 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e bibliothèque centra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 rectora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 Auditorium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locaux de soutien pédagogiqu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8000 P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281160" y="2498760"/>
            <a:ext cx="872316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120" y="449280"/>
          <a:ext cx="8429760" cy="4297320"/>
        </p:xfrm>
        <a:graphic>
          <a:graphicData uri="http://schemas.openxmlformats.org/drawingml/2006/table">
            <a:tbl>
              <a:tblPr/>
              <a:tblGrid>
                <a:gridCol w="2071800"/>
                <a:gridCol w="1071360"/>
                <a:gridCol w="1357560"/>
                <a:gridCol w="857160"/>
                <a:gridCol w="30718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ce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1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t réalisation de 20 lab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/06/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1.778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ès réévaluation de l’opération, le chantier des 14 /20 laboratoires vient d’être relancé et la réception est prévue pour le mois de mars 201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ur la partie 06/20 laboratoires, le chantier a été lancé  au mois d’octobre. Il est à signaler que le lancement du chantier a été retardé en raison de l’implantation du chantier des 2000 places pédagogiques sur le terrain réservé au 06 laboratoire et en raison également de l’insuffisance de l’autorisation de programm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e 10 lab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régional de composants et de dispositifs électron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régional d’analyse physico-chim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57120" y="928800"/>
          <a:ext cx="8215560" cy="2840040"/>
        </p:xfrm>
        <a:graphic>
          <a:graphicData uri="http://schemas.openxmlformats.org/drawingml/2006/table">
            <a:tbl>
              <a:tblPr/>
              <a:tblGrid>
                <a:gridCol w="2286000"/>
                <a:gridCol w="1071720"/>
                <a:gridCol w="1500120"/>
                <a:gridCol w="642960"/>
                <a:gridCol w="2714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de modélisation et de calcul intensi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plateau techn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70 Log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80 Log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20 Logts (El Bayad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at d’étude finalisé et signé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30 Logts (El Bayad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attente d’affectation d’un terrain par l’APC d’El Bayadh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298440" y="3035160"/>
            <a:ext cx="8339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57120" y="357120"/>
          <a:ext cx="8429760" cy="4486320"/>
        </p:xfrm>
        <a:graphic>
          <a:graphicData uri="http://schemas.openxmlformats.org/drawingml/2006/table">
            <a:tbl>
              <a:tblPr/>
              <a:tblGrid>
                <a:gridCol w="2416320"/>
                <a:gridCol w="1084320"/>
                <a:gridCol w="1214280"/>
                <a:gridCol w="1143000"/>
                <a:gridCol w="25718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de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ement de 2000 PP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 du campus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/01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.523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51.217,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es facultés nouvelles 3000 PP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/10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915.708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en cours de récep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e 4000/6000 PP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/08/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.574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360.051,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en cours de récep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scientifiques  pour le renforcement  des TP (2007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/12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23.746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à l’exception d’un marché d’importation  (lettre de crédit en cours d’ouvertur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scientifiques  pour les TP (200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/03/2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889.975,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ché en cours d’élabora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examen par le comité des marché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’une bibliothèque centrale de 1000 P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5.621.7.260.160.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/05/19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612.009,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et équipements complémentaire en cours d’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’un plateau techn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ération notifiée et non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7120" y="642960"/>
          <a:ext cx="8143920" cy="2835360"/>
        </p:xfrm>
        <a:graphic>
          <a:graphicData uri="http://schemas.openxmlformats.org/drawingml/2006/table">
            <a:tbl>
              <a:tblPr/>
              <a:tblGrid>
                <a:gridCol w="2335320"/>
                <a:gridCol w="1165320"/>
                <a:gridCol w="1357200"/>
                <a:gridCol w="1214280"/>
                <a:gridCol w="2071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de 2000 PP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ite du rectora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à l’étude par la commission des marché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forcement des moyens d’information et de communica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nité de Calcul Intensi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che technique en cours d’élabo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informatiques de l’universit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6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ension du réseau INTRAN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des laboratoires de recherch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.5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1:57:36Z</dcterms:created>
  <dc:creator>Moh</dc:creator>
  <dc:description/>
  <dc:language>en-US</dc:language>
  <cp:lastModifiedBy>SWEET</cp:lastModifiedBy>
  <dcterms:modified xsi:type="dcterms:W3CDTF">2010-11-08T09:00:24Z</dcterms:modified>
  <cp:revision>116</cp:revision>
  <dc:subject/>
  <dc:title>REPUBLIQUE ALGERIENNE DEMOCRATIQUE ET POPULAIRE</dc:title>
</cp:coreProperties>
</file>