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58BE-8B43-479C-8182-DDA09C25E2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C35F-D8A8-4113-AB97-272A7B026AF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F57-0646-4366-8E67-1EFB57DC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14B-5364-47EC-9522-E813D16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06D-9CEC-494D-A4BE-079BB380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D30-77CA-4D46-8399-81C2F4C6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58E-DB3F-4FE6-9A1B-15C44CB6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A39-436C-4044-A90F-D01EE24C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6461-2D61-4F60-BA37-09E81BB5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67B-1684-418D-9EC9-2E22C50C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AC0-44C0-48BA-B141-C6EE533F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E90-6C95-4616-A818-939FDBE9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B4B-E5ED-4DCC-B532-6F8BC525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D80-C318-416E-B496-B73936A0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6433-673A-4B98-9F38-3C4BF524ED5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57200" y="357120"/>
            <a:ext cx="642960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fr-FR" sz="1400" spc="-1" strike="noStrike">
                <a:solidFill>
                  <a:srgbClr val="ffffff"/>
                </a:solidFill>
                <a:latin typeface="comic"/>
                <a:ea typeface="Arabic Transparent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"/>
              </a:rPr>
              <a:t>REPUBLIQUE ALGERIENNE DEMOCRATIQUE ET POPULAIRE</a:t>
            </a:r>
            <a:r>
              <a:rPr b="0" i="1" lang="fr-FR" sz="1800" spc="-1" strike="noStrike">
                <a:solidFill>
                  <a:srgbClr val="ffffff"/>
                </a:solidFill>
                <a:latin typeface="com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tretch/>
        </p:blipFill>
        <p:spPr>
          <a:xfrm>
            <a:off x="1206360" y="3462480"/>
            <a:ext cx="6480360" cy="1401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285920" y="1214280"/>
            <a:ext cx="6643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"/>
              </a:rPr>
              <a:t>MINISTERE DE L’ENSEIGNEMENT SUPERIEU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"/>
              </a:rPr>
              <a:t>ET DE LA RECHERCHE SCIENTIFI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Text Box 6" descr=""/>
          <p:cNvPicPr/>
          <p:nvPr/>
        </p:nvPicPr>
        <p:blipFill>
          <a:blip r:embed="rId2"/>
          <a:stretch/>
        </p:blipFill>
        <p:spPr>
          <a:xfrm>
            <a:off x="1066680" y="2305080"/>
            <a:ext cx="687096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Image 5" descr="Nouvelle image Bitmap.jpg"/>
          <p:cNvPicPr/>
          <p:nvPr/>
        </p:nvPicPr>
        <p:blipFill>
          <a:blip r:embed="rId3"/>
          <a:stretch/>
        </p:blipFill>
        <p:spPr>
          <a:xfrm>
            <a:off x="420840" y="1066680"/>
            <a:ext cx="1158840" cy="1225800"/>
          </a:xfrm>
          <a:prstGeom prst="rect">
            <a:avLst/>
          </a:prstGeom>
          <a:ln w="0">
            <a:noFill/>
          </a:ln>
        </p:spPr>
      </p:pic>
      <p:pic>
        <p:nvPicPr>
          <p:cNvPr id="53" name="Image 8" descr="DSC00155.JPG"/>
          <p:cNvPicPr/>
          <p:nvPr/>
        </p:nvPicPr>
        <p:blipFill>
          <a:blip r:embed="rId4"/>
          <a:stretch/>
        </p:blipFill>
        <p:spPr>
          <a:xfrm>
            <a:off x="7429680" y="1143000"/>
            <a:ext cx="1214280" cy="116676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7"/>
          <p:cNvSpPr/>
          <p:nvPr/>
        </p:nvSpPr>
        <p:spPr>
          <a:xfrm>
            <a:off x="3214800" y="6000840"/>
            <a:ext cx="22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Octobre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3" descr=""/>
          <p:cNvPicPr/>
          <p:nvPr/>
        </p:nvPicPr>
        <p:blipFill>
          <a:blip r:embed="rId1"/>
          <a:stretch/>
        </p:blipFill>
        <p:spPr>
          <a:xfrm>
            <a:off x="360360" y="2571840"/>
            <a:ext cx="844236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14200" y="214200"/>
          <a:ext cx="8501040" cy="6384960"/>
        </p:xfrm>
        <a:graphic>
          <a:graphicData uri="http://schemas.openxmlformats.org/drawingml/2006/table">
            <a:tbl>
              <a:tblPr/>
              <a:tblGrid>
                <a:gridCol w="2214720"/>
                <a:gridCol w="1225440"/>
                <a:gridCol w="1346400"/>
                <a:gridCol w="1071360"/>
                <a:gridCol w="264312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itulé de l’opéra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d’inscrip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  (DA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née d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cep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2000 pp 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ampus 1</a:t>
                      </a:r>
                      <a:r>
                        <a:rPr b="0" lang="fr-FR" sz="13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ère</a:t>
                      </a: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ranche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/01/200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ème de détachement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la dalle de sol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2000 pp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ampus 2</a:t>
                      </a:r>
                      <a:r>
                        <a:rPr b="0" lang="fr-FR" sz="13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ranche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9/04/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ème de détachement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la dalle de sol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1000 pp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Chirurgie dentaire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/03/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ème d’étanchéité au niveau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s amphithéâtre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’une bibliothèqu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ntrale de 1000 PP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1/04/199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6.982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lème de détachement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 la dalle de sol et problème  de climatisation central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3000 PP (Campus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8/11/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cours de récep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4000 PP (Campus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/01/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cours de réceptio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2000 PP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ite du Rectorat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/01/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0.000.00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évue e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cembre 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évue en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écembre 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’une bibliothèque central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n cour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’un rectorat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n cour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’un Auditorium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n cour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locaux de soutien pédagogique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n cours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éalisation de 8000 PP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3" descr=""/>
          <p:cNvPicPr/>
          <p:nvPr/>
        </p:nvPicPr>
        <p:blipFill>
          <a:blip r:embed="rId1"/>
          <a:stretch/>
        </p:blipFill>
        <p:spPr>
          <a:xfrm>
            <a:off x="281160" y="2498760"/>
            <a:ext cx="8723160" cy="15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120" y="449280"/>
          <a:ext cx="8429760" cy="4297320"/>
        </p:xfrm>
        <a:graphic>
          <a:graphicData uri="http://schemas.openxmlformats.org/drawingml/2006/table">
            <a:tbl>
              <a:tblPr/>
              <a:tblGrid>
                <a:gridCol w="2071800"/>
                <a:gridCol w="1071360"/>
                <a:gridCol w="1357560"/>
                <a:gridCol w="857160"/>
                <a:gridCol w="30718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itulé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d’inscrip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 (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d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écep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21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et réalisation de 20 labo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/06/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1.778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rès réévaluation de l’opération, le chantier des 14 /20 laboratoires vient d’être relancé et la réception est prévue pour le mois de mars 201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ur la partie 06/20 laboratoires, le chantier a été lancé  au mois d’octobre. Il est à signaler que le lancement du chantier a été retardé en raison de l’implantation du chantier des 2000 places pédagogiques sur le terrain réservé au 06 laboratoire et en raison également de l’insuffisance de l’autorisation de programm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e 10 lab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’un centre régional de composants et de dispositifs électroniqu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’un centre régional d’analyse physico-chimi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57120" y="928800"/>
          <a:ext cx="8215560" cy="2840040"/>
        </p:xfrm>
        <a:graphic>
          <a:graphicData uri="http://schemas.openxmlformats.org/drawingml/2006/table">
            <a:tbl>
              <a:tblPr/>
              <a:tblGrid>
                <a:gridCol w="2286000"/>
                <a:gridCol w="1071720"/>
                <a:gridCol w="1500120"/>
                <a:gridCol w="642960"/>
                <a:gridCol w="27147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’un centre de modélisation et de calcul intensi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la réalisation d’un plateau techni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70 Log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80 Logt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approuvé, avis d’appel d’offre en voie de lancem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20 Logts (El Bayadh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rat d’étude finalisé et signé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ude pour 30 Logts (El Bayad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n encore insc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n attente d’affectation d’un terrain par l’APC d’El Bayadh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ectangle 3" descr=""/>
          <p:cNvPicPr/>
          <p:nvPr/>
        </p:nvPicPr>
        <p:blipFill>
          <a:blip r:embed="rId1"/>
          <a:stretch/>
        </p:blipFill>
        <p:spPr>
          <a:xfrm>
            <a:off x="298440" y="3035160"/>
            <a:ext cx="833904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57120" y="357120"/>
          <a:ext cx="8429760" cy="4486320"/>
        </p:xfrm>
        <a:graphic>
          <a:graphicData uri="http://schemas.openxmlformats.org/drawingml/2006/table">
            <a:tbl>
              <a:tblPr/>
              <a:tblGrid>
                <a:gridCol w="2416320"/>
                <a:gridCol w="1084320"/>
                <a:gridCol w="1214280"/>
                <a:gridCol w="1143000"/>
                <a:gridCol w="25718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itulé de l’opé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 d’inscrip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tant (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de (D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quipement de 2000 PP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fr-FR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ème</a:t>
                      </a: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tranche du campus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/01/20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9.523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451.217,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fournis et réceptionné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 des facultés nouvelles 3000 PP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/10/20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915.708.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en cours de réception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 install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 de 4000/6000 PP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2/08/20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0.574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360.051,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en cours de réception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 install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scientifiques  pour le renforcement  des TP (2007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/12/20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323.746.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fournis et réceptionnés à l’exception d’un marché d’importation  (lettre de crédit en cours d’ouvertur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scientifiques  pour les TP (200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F5.621.7.260.160.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/03/20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9.889.975,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ché en cours d’élaboration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t examen par le comité des marché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 d’une bibliothèque centrale de 1000 P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D5.621.7.260.160.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/05/19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0.000.0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612.009,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fournis et réceptionnés et équipements complémentaire en cours d’install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 d’un plateau techniqu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ération notifiée et non inscri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57120" y="642960"/>
          <a:ext cx="8143920" cy="2835360"/>
        </p:xfrm>
        <a:graphic>
          <a:graphicData uri="http://schemas.openxmlformats.org/drawingml/2006/table">
            <a:tbl>
              <a:tblPr/>
              <a:tblGrid>
                <a:gridCol w="2335320"/>
                <a:gridCol w="1165320"/>
                <a:gridCol w="1357200"/>
                <a:gridCol w="1214280"/>
                <a:gridCol w="20718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de 2000 PP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ite du rectora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hier des charges à l’étude par la commission des marché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nforcement des moyens d’information et de communication </a:t>
                      </a:r>
                      <a:br>
                        <a:rPr sz="1200"/>
                      </a:b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Unité de Calcul Intensif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che technique en cours d’élabor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informatiques de l’universit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6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alyse finalisée, marchés en cours d’approba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ension du réseau INTRAN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.0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alyse finalisée, marchés en cours d’approba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quipements des laboratoires de recherch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.500.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alyse finalisée, marchés en cours d’approba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1:57:36Z</dcterms:created>
  <dc:creator>Moh</dc:creator>
  <dc:description/>
  <dc:language>en-US</dc:language>
  <cp:lastModifiedBy>SWEET</cp:lastModifiedBy>
  <dcterms:modified xsi:type="dcterms:W3CDTF">2010-11-08T09:00:24Z</dcterms:modified>
  <cp:revision>116</cp:revision>
  <dc:subject/>
  <dc:title>REPUBLIQUE ALGERIENNE DEMOCRATIQUE ET POPULAIRE</dc:title>
</cp:coreProperties>
</file>